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375D4-8817-4F9D-A697-548C167873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LACE ART Fig.1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08A7-354D-46BF-9396-09359988F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65DE-A587-4961-A787-EA142772D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CFD8-3BEB-442E-9055-8E0E85465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5E80-0A94-4DC2-9A96-8CA5604DA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C65F1-EC29-4446-9525-C487639F7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D53C3-06E3-429C-BA50-4723ADFBB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E91D6-D72C-48F0-8E6D-2812B08B5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C8A63-6DBA-4AEE-BB66-7D882A8DF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7F3A7-450F-49EC-9A83-71F317FBA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66B97-ABB5-4788-9668-E46FB3EBC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85EB4-2E4C-4C2A-AA17-5E5ECD038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7E58-6A55-484B-AFDD-1553DB634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7DDC6-3428-4B9C-8673-FED0A8A33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7B128-1E33-4836-80A4-0833CE33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0B046-BA2B-436F-B635-F9D28238F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DF48B-59CD-4D7D-9B76-EE5817507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5286B-1EBE-4383-BF24-6516DEA6B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F898-BCC2-4160-BC99-32E29DE33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C0B7-FA14-453F-A05C-17A240432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D328-7CE1-4E2F-AA7A-FEBE36E8A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7073-7921-40E2-86D3-ABD7071D5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242A-16FB-4D78-9A02-8D380068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923B-08DD-44FA-8D42-22224C66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B7ED-9D29-4E8B-BB9C-EABD376ED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72ba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72ba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4b3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4b3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Computer Literacy 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56849-2E8B-4070-9F49-3F8BFE2CB07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72b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4b3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4b3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F769C-2407-46F9-A0EB-1FF9750B4AD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omputing Fundamentals Module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Lesson 1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—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Introducing Computer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3581280" y="2927160"/>
            <a:ext cx="5105520" cy="14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Computer Literacy BASIC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9246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w Computers Are Used Today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925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Homework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nstant access to research and information; can software applications for assignmen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anaging businesses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maintain inventory, print invoices, track finances, advertise online, many other task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03E1-57C6-46BA-8CE1-298284C4C6B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ypes of Compute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upercomputers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largest and fastest computers used by government agencies and large corporations to process tremendous volumes of dat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ainframes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Large, very expensive machines that can support thousands of users; used by large corporation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7C4E-60A7-434C-92F3-BDC89035D07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ypes of Compute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66"/>
                </a:solidFill>
                <a:latin typeface="Arial"/>
              </a:rPr>
              <a:t>Minicomputers:</a:t>
            </a: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 Larger than a desktop and much more expensive, but can support many users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66"/>
                </a:solidFill>
                <a:latin typeface="Arial"/>
              </a:rPr>
              <a:t>Microcomputers:</a:t>
            </a: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 personal computers or desktop computers. Personal computers also include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Arial"/>
              </a:rPr>
              <a:t>Notebook computers:</a:t>
            </a: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 Smaller and more portable than a desktop; commonly called a laptop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Arial"/>
              </a:rPr>
              <a:t>PDAs</a:t>
            </a: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1" lang="en-US" sz="2300" spc="-1" strike="noStrike">
                <a:solidFill>
                  <a:srgbClr val="003366"/>
                </a:solidFill>
                <a:latin typeface="Arial"/>
              </a:rPr>
              <a:t>Personal Digital Assistants):</a:t>
            </a: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 are very small and fit in the palm of your hand. 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C91E-1D36-4B81-831B-63D1A54654F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371600" y="3505320"/>
            <a:ext cx="7086600" cy="25286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 flipH="1">
            <a:off x="6552720" y="2971800"/>
            <a:ext cx="228600" cy="5335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0" y="2895480"/>
            <a:ext cx="457200" cy="6098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ypes of Personal Compute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371600" y="2666880"/>
            <a:ext cx="2286000" cy="3682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cintosh deskto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2666880"/>
            <a:ext cx="1524240" cy="3682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 deskto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7E0F-84B4-43E8-872E-5E9AADDDB2D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752480" y="3657600"/>
            <a:ext cx="2438640" cy="23893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 flipH="1">
            <a:off x="6781680" y="3124080"/>
            <a:ext cx="152640" cy="5335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14600" y="3124080"/>
            <a:ext cx="152280" cy="4572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ypes of Personal Compute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477120" y="2819520"/>
            <a:ext cx="761760" cy="3682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D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52480" y="2819520"/>
            <a:ext cx="1295640" cy="3682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teboo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5105520" y="3657600"/>
            <a:ext cx="2438280" cy="2070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6A3D-6538-4F48-AA5F-6CBC379FF2B6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ther Computing Devic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Microprocessors are computer chips that perform special functions to process information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These computer chips help many kinds of equipment perform more efficiently and effectively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Household appliances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Calculators, cellular telephones, and digital cameras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Game systems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Automobiles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Industrial equipment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6FE8-F82D-4B9C-9FAD-2F675BCAC2A6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mputer System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computer system is a combination of parts working together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Hardware: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 The physical devices such as keyboard, monitor, CPU, and so on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Software: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 Operating systems and application programs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Data: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 The facts entered into a computer to be processed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People: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 The users who enter the data and use the resulting output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24B2-7EBF-4C96-B392-6E66EEF63403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8800" y="839160"/>
            <a:ext cx="7770600" cy="10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ardware Components of a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ypical Microcomputer Syste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905120" y="2514600"/>
            <a:ext cx="4684680" cy="372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7BFD-C9F8-4FB0-BB27-9C820602A25E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ata Communica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ata communications is the technology that enables computers to communicate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four components of data communications a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Sender: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 The computer that is sending the message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Receiver: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 The computer receiving the message </a:t>
            </a: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Channel: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 The media that carries or transports the message. This could be telephone wire, coaxial cable, microwave signal, or fiber optic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Protocol: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 The rules that govern the orderly transfer of the data sent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B19A-E3BC-463B-98E2-4ED1537E49FB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8800" y="839160"/>
            <a:ext cx="7770600" cy="10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ata Communications Compone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133720" y="3581280"/>
            <a:ext cx="464796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447920" y="3200400"/>
            <a:ext cx="6553080" cy="1328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0B3A-48D4-4F5F-B1B2-881F8C2086B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fine a comput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dentify how computers are used in our daily liv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pare and classify types of computer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ist the parts of a computer system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plain how computers are integrated into larger systems through network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5CDB-D29B-4A89-9E29-C7ED78788ACD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mputer Network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Businesses utilize a type of data communications called a network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A network consists of multiple computers connected to each other to share data and resources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A computer network located in a small geographical area, such as one building or department, is called a local area network or LAN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A network made up of several local networks in a city, region, or across the world is called a wide area network or WAN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37B5-82B0-4332-9F9E-483DF316D69A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 Typical Network Layou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62320" y="2590920"/>
            <a:ext cx="449568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219320" y="2590920"/>
            <a:ext cx="6064200" cy="3524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8A30-50E3-4F8F-89A0-73C9AAE945DD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trane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s used within an organization and contains company information such as handbooks, forms, and newsletter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vantages: reliability and security because the organization can control access to this kind of network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AB00-D35D-41F7-B0BC-A005933E019F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xtrane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tranets are computer networks that allow outside organizations to access a business’s internal information system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ccess is controlled tightly and is usually reserved for suppliers or customer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2C1C-0629-4949-8D30-B12554F26F32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Interne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The Internet was developed for government research projects to share information quickly and easily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Today it is the largest network in the world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used by millions of users everyday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has become a critical and valuable business tool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most common feature is electronic mail, or e-mail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7973-7BD4-44F7-BE29-6A3D299D57E6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ssign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plete Review Questions: Lesson 1, page 15 &amp; 16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ultiple Choice Q’s 1-10 &amp; True/False Q’s 1-5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Please write out the entire question with the correct answer!!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uiz over Ch 1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DEB8-730E-469C-8B67-BC88E3EC1943}" type="slidenum">
              <a:t>25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ocabula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ann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put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puter syste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a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ata communica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ardwa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rn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cal area network (LAN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inframe comput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comput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processo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C701-C6F8-46DD-BB7D-10072E99A4F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ocabulary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nicomput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twor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tebook comput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eop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toco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ceiv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nd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ftwa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upercomput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de area networks (WAN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1BE0-7E73-4563-9F88-FFCA9134118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9246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Makes a Computer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 Comput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A computer is an electronic device tha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5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Receives data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nformation (text, numbers, or graphic images) is entered into the compute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5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ocesses data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computer will change the data from original into the result the user want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5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tores data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nformation is stored in the computer’s memory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5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oduces a result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A final display of information that was entered can be printed or displayed on a monito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F73B-FA75-4E0B-8CC6-91CB0DA791B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8800" y="839160"/>
            <a:ext cx="7770600" cy="10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Processing Cycle of a Comput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362320" y="3352680"/>
            <a:ext cx="259056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066680" y="3124080"/>
            <a:ext cx="6855120" cy="2097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8DD2-0D7C-4180-9D63-CD6D99CCD79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9246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mputers Perform Three Opera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rithmetic opera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Adding, subtracting, multiplying, and dividing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gical comparis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Equal to, greater than or less than, etc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orage and retrieval opera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8E49-FADB-4562-8DAF-5169A0D121F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y Are Computers So Popular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erform functions very quickl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duce accurate and reliable resul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ore large amounts of dat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re versatile and cost-effectiv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re becoming more powerful and more useful every da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46D1-408A-4438-8A44-1194638431B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w Computers Are Used Toda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925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puters are used every day f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News: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Newspapers and TV stations post breaking news, and weather can be accessed on demand on Internet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Shopping: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Millions of people use Internet to purchase goods and services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EAC3-D436-40EA-A503-E0B9AB9FC91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1T01:47:29Z</dcterms:created>
  <dc:creator>Connie Morrison</dc:creator>
  <dc:description/>
  <dc:language>en-US</dc:language>
  <cp:lastModifiedBy>LDSD</cp:lastModifiedBy>
  <dcterms:modified xsi:type="dcterms:W3CDTF">2009-08-18T16:27:31Z</dcterms:modified>
  <cp:revision>60</cp:revision>
  <dc:subject/>
  <dc:title>kjjhghgff</dc:title>
</cp:coreProperties>
</file>